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0E25-249F-4AB0-8416-9BF0812D1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07CC-593D-44A4-B8C4-DD9B03AB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5564-5D6C-4213-9453-C0600594B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4FB8-0DF1-4558-A3F7-CE52C48BA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77A2-B09F-407A-8A57-AA059497E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FFA6-C193-4567-8957-EEB66204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B392-87ED-483E-BB6D-7F8DF222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8020-167A-4035-9708-CB7A1711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FF03-11DB-40FD-A433-B3CE5553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F1FA-AB32-4E5D-945F-55BAB8D6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7542-3AAA-407A-AB15-416115C6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9447-7821-429D-8B17-7DCA7F9F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D5E1-6E41-4FF8-A218-5266A7DC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53C6-E033-49F8-B63F-43BA9B15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E5A0-B5E5-42B8-8A6C-D6826B93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5E2C-F923-456E-B1FD-71FE74EDB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C048-1F8F-4FDC-A6CC-4A3E71DF9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ED43-48CB-439E-AEA6-046E38A8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BA1D-0CA2-4656-852C-600491C5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BECA-52DD-40A3-A93D-07C1F61D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D855-434F-4468-BA31-95BE84AE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C203-9F00-4917-B6BF-4FB3101D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0EEB-32DF-4FB5-8B65-E51877D8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C71E-65C7-4E23-9A58-D9162771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DD89-4C99-48F4-A97F-5330A2701EA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1A0F-B2ED-411E-A104-7E672821BD5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otball : gridir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aseball:diamon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ennis:ne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ckey:helme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ccer: goali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asketball:dribbl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is the relationshi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ssignment: With a partner (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meone you haven’t worked with before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6960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6 quotes-3 from ch. 3 and 3 from ch. 4, that you think are important. Explain why they stand out to you or what they show about the book, character, etc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ournal Respon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rite about a person you know who does things just to try to fit in or impress other people. 2 pa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. 3 and 4 qui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696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cused Freewri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 mi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o you think the world will be a better or a worse place 100 years from now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ocabulary Practice-Freshm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a synonym for the following word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veig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rmi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rinsi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ccul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me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ocabulary Practice-Jun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a synonym for the following word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fflu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vis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lee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vari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o Kill a Mockingbird-Ch.16/17 ques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696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does Atticus say about mobs and men over the breakfast tabl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significant about Mr. Dolphus Raymon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news does Scout get from the “Idlers’ Club”? What is it that confuses her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o is the first person to take the stand and testif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-Continu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does Atticus spend much of his time asking Mr. Tat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 do the Ewells live, and what does this say about ther social position in Maycomb countr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oes Mr. Ewell act when he first takes the stand, and how does Judge Taylor react to him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Mr. Ewell’s version of what happene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y does Atticus want Ewell to write his nam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ournal Respon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is your opinion of Bob Ewell? Compare him to any other character you’ve seen in a book or movie. Try, as Atticus suggests elsewhere, to walk in Bob Ewell’s shoes? Why is he the way he is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ead chapters 18 and 19 for tomorrow, expect a quiz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he Great Gatsby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rite a brief summary of the most important things in ch. 4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9:35:14Z</dcterms:created>
  <dc:creator>rebecca</dc:creator>
  <dc:description/>
  <dc:language>en-US</dc:language>
  <cp:lastModifiedBy>rebecca</cp:lastModifiedBy>
  <dcterms:modified xsi:type="dcterms:W3CDTF">2009-02-24T21:32:51Z</dcterms:modified>
  <cp:revision>3</cp:revision>
  <dc:subject/>
  <dc:title>DOA</dc:title>
</cp:coreProperties>
</file>